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881-FDF7-41FD-A725-F4BE0B93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74C-2BC6-4034-87A7-5DBD6BB7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463-8043-4648-B9D0-8FA5A52E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65F-CD8A-4DE5-AF3C-0783C7AB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053-340A-482E-8B5F-A93F569C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E10-8D9E-4D13-BBC1-BCF9C365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8B6-6362-4D7E-BCCA-A3557096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C47-FCA1-4612-9741-B4F8094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30C-2C08-48F1-9548-D3581C05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7E4-D988-4DC3-8A13-54987D45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006-DD6C-4883-AD10-B89CE6E6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69A-8F45-4FF9-8536-9DE53FA7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FCE7-5C2A-474B-9457-FB446D86D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overn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Behind that Curtai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3623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behind th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really Gov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4419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Corp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533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Helmeted UN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52880" y="4114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ilateral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65760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igiou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70572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ber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222920" y="51814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ory Towered Univer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791320" y="4724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219320" y="3581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nn B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6019920" y="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ma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295280" y="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reau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477120" y="5791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604440" y="23623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k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, Legitimacy and Auth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-The ability to get someone to d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- Principals secretary screens telephone calls, she possesses enormou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- the rightful use of that Power, formal v. inform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 in School- Administrators are perceived to have certain authority that teachers do not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timacy- How did that person gain that rightful u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 in Iraq. We believe that legitimacy is conferred by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- Athenian Pur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-Citizen Power- Empowerment of the Masses- EG California Recall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- Inconsistencies- EG. Vote for low taxes and Vote for better health care and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ve Democracy- ie. Vote for your Representatives (Republ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- Representatives can study issues and develop an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- Become attenuated from the People- House of Representatives today- 1 per 700,000 pop. California, 2 senators for a 40 Milli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ve Democracy and who really gov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te Theory- Small cadre of Elite pull the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xist Theory- Ownership determines power- Capitalists run America- Exxon, Enron, Pharmaceutical Industry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 company drew up Medicare Prescription care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panies working with the Vice-President secretly developed the 2002 Energy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Wright Mills- Power Elite- Mixture of Key Advisers, Corporate leaders and Military Offi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emian Club- All male Republican Club, meets in Bohemian Gro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McNamara, Harvard MBA grad, was the CEO for Ford before becoming Secretary of Defense for JFK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lateral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en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ull and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tes are not uniform- For example, 1) Jon Corzine, Democratic Governor from NJ spent $70 million on his campaign, he has little common ground w/multi-millionaire, Tom Golisano a Republican running for Gov. in 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cratic Theory- Max Weber (German sociologists at the turn of the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)- SEE Homeland Security Flowchar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Government’s role has expanded its’ size required expertise. The bureaucratic experts are the ones that really run the govt..  Decision makers rely upon government institutions for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ovt. Climatologists determine that Global Warming is a problem, this leads to policies consistent with the 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4343400"/>
            <a:ext cx="8305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in existence Bureaucracies are difficult to kill- Take on a life of thei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- President Reagan ran for office w/the promise to kill the Department of Education, by the end of his Presidency it had substantially grown 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uralist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groups w/shifting alliances, no single group has “the power”, depends on needs, size etc…of the group demanding chan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Drug Prescription plan favored by Senior Citizens and Pharmaceutical companies passes, alienates, fiscally conservative Republicans who help elect the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l Tariffs are passed, please Steel Companies, swing state voters in W.Va., Pa. and Ohio, alienate, Auto Companies and Democrat and Republican Free Trade advo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lo Wine gets a bill passed that only benefits them, minimal impact on an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pl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ism that has gone so far as to cause gridlock, single issue politics, little common ground on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f Governmen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/Paradigms, designed to provide “real world”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in the Models/Paradigms-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ies are based upon Cause and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ood Theory- high predictive value and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es the cause and effect (one independent and one dependent vari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cience Theories can not be tested in a “vacuu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“assumption” that all other variables held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ralism/Hyperpluralism are probably the most accurate Governmen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no predictiv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groups at different times result in different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45:51Z</dcterms:created>
  <dc:creator>Darien Public Schools</dc:creator>
  <dc:description/>
  <dc:language>en-US</dc:language>
  <cp:lastModifiedBy>Administrator</cp:lastModifiedBy>
  <dcterms:modified xsi:type="dcterms:W3CDTF">2011-01-31T12:04:35Z</dcterms:modified>
  <cp:revision>17</cp:revision>
  <dc:subject/>
  <dc:title>Who Is Behind that Curtain???</dc:title>
</cp:coreProperties>
</file>